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Chapter" id="0">
      <p:sldLst>
        <p:sld r:id="rId4"/>
        <p:sld r:id="rId5"/>
        <p:sld r:id="rId3"/>
        <p:sld r:id="rId7"/>
        <p:sld r:id="rId9"/>
        <p:sld r:id="rId17"/>
        <p:sld r:id="rId6"/>
      </p:sldLst>
    </p:custShow>
    <p:custShow name="ELI Sect 1" id="1">
      <p:sldLst>
        <p:sld r:id="rId4"/>
        <p:sld r:id="rId5"/>
        <p:sld r:id="rId6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3"/>
        <p:sld r:id="rId19"/>
        <p:sld r:id="rId20"/>
        <p:sld r:id="rId21"/>
        <p:sld r:id="rId22"/>
        <p:sld r:id="rId23"/>
        <p:sld r:id="rId24"/>
      </p:sldLst>
    </p:custShow>
    <p:custShow name="ELI Sect 4" id="2">
      <p:sldLst>
        <p:sld r:id="rId9"/>
        <p:sld r:id="rId17"/>
        <p:sld r:id="rId6"/>
      </p:sldLst>
    </p:custShow>
    <p:custShow name="ELI STP" id="3">
      <p:sldLst>
        <p:sld r:id="rId8"/>
        <p:sld r:id="rId11"/>
        <p:sld r:id="rId14"/>
        <p:sld r:id="rId15"/>
        <p:sld r:id="rId20"/>
        <p:sld r:id="rId22"/>
      </p:sldLst>
    </p:custShow>
    <p:custShow name="Bellringers" id="4">
      <p:sldLst>
        <p:sld r:id="rId4"/>
      </p:sldLst>
    </p:custShow>
    <p:custShow name="Chapter menu" id="5">
      <p:sldLst>
        <p:sld r:id="rId4"/>
        <p:sld r:id="rId5"/>
        <p:sld r:id="rId6"/>
        <p:sld r:id="rId8"/>
        <p:sld r:id="rId10"/>
        <p:sld r:id="rId11"/>
        <p:sld r:id="rId12"/>
        <p:sld r:id="rId13"/>
        <p:sld r:id="rId14"/>
        <p:sld r:id="rId15"/>
        <p:sld r:id="rId16"/>
        <p:sld r:id="rId18"/>
        <p:sld r:id="rId19"/>
        <p:sld r:id="rId20"/>
        <p:sld r:id="rId21"/>
        <p:sld r:id="rId22"/>
        <p:sld r:id="rId23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86856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86856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6856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6" descr="earth_sci_conten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Aft>
                <a:spcPts val="15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28600" y="572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rthquak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72388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4"/>
          <p:cNvSpPr/>
          <p:nvPr/>
        </p:nvSpPr>
        <p:spPr>
          <a:xfrm>
            <a:off x="4724280" y="60958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5"/>
          <p:cNvSpPr/>
          <p:nvPr/>
        </p:nvSpPr>
        <p:spPr>
          <a:xfrm>
            <a:off x="5715000" y="6095880"/>
            <a:ext cx="1066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6"/>
          <p:cNvSpPr/>
          <p:nvPr/>
        </p:nvSpPr>
        <p:spPr>
          <a:xfrm>
            <a:off x="6781680" y="60958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7"/>
          <p:cNvSpPr/>
          <p:nvPr/>
        </p:nvSpPr>
        <p:spPr>
          <a:xfrm>
            <a:off x="8039160" y="6095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2">
            <a:hlinkClick r:id="" action="ppaction://hlinkshowjump?jump=previousslide"/>
          </p:cNvPr>
          <p:cNvSpPr/>
          <p:nvPr/>
        </p:nvSpPr>
        <p:spPr>
          <a:xfrm>
            <a:off x="4829040" y="6172200"/>
            <a:ext cx="782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3">
            <a:hlinkClick r:id="" action="ppaction://hlinkshowjump?jump=nextslide"/>
          </p:cNvPr>
          <p:cNvSpPr/>
          <p:nvPr/>
        </p:nvSpPr>
        <p:spPr>
          <a:xfrm>
            <a:off x="5838840" y="6172200"/>
            <a:ext cx="809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4">
            <a:hlinkClick r:id="" action="ppaction://hlinkshowjump?jump=firstslide"/>
          </p:cNvPr>
          <p:cNvSpPr/>
          <p:nvPr/>
        </p:nvSpPr>
        <p:spPr>
          <a:xfrm>
            <a:off x="6886440" y="6172200"/>
            <a:ext cx="982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5">
            <a:hlinkClick r:id="" action="ppaction://hlinkshowjump?jump=endshow"/>
          </p:cNvPr>
          <p:cNvSpPr/>
          <p:nvPr/>
        </p:nvSpPr>
        <p:spPr>
          <a:xfrm>
            <a:off x="8048520" y="6172200"/>
            <a:ext cx="849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68400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ction 1: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and Where Earthquakes Happe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400" y="169056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and Where Earthquakes Hap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Earthquakes Hap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astic Deformation and Elastic Re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smic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smic Waves and Earth’s I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s and Plate Tecto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 Z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779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ismic Wav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ody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 wa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condary wave, or shear wave; a seismic wave that causes particles of rock to move in a side-to-side direction perpendicular to the direction in which the wave is trav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waves are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779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ismic Wav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rface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e waves form from motion along a shallow fault or from the conversion of energy when P waves or S waves reach Earth’s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surface waves are the slowest-moving seismic waves, they can cause the greatest damage during an earthqu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Love wav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surface waves that cause rock to move side-to-side and perpendicular to the direction of the wa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aleigh wav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surface waves cause the ground to move with an elliptical, rolling mo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ismic Waves and Earth’s Interior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4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y studying the speed and direction of seismic waves, scientists can learn more about the makeup and structure of Earth’s interio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cc00"/>
                </a:solidFill>
                <a:latin typeface="Arial"/>
              </a:rPr>
              <a:t>Earth’s Internal Layer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4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1909, Andrija Mohorovičić discovered that the speed of seismic waves increases abruptly at about 30 km beneath the surface of continents, where the crust and mantle mee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Aft>
                <a:spcPts val="4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By studying seismic waves, scientists have discovered Earth’s three composition layers (th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crust,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mantle,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cor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) and Earth’s five structural layers (th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lithosphere,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asthenosphere,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mesosphere,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outer core,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inner cor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5760" y="16902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hadow Z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hadow zo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dow zones exist because the materials that make up Earth’s interior are not uniform in rigid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576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ismic Waves and 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38120" y="1690560"/>
            <a:ext cx="84009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hadow Z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eismic waves travel through materials of different rigidity, they change in both speed and dir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waves do not reach the S wave shadow zone because cannot pass through the liquid outer c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waves do not reach the P wave shadow zone because of the way the P waves bend and they travel through Earth’s in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576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ismic Waves and 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684000"/>
            <a:ext cx="8001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ismic Waves and Earth’s Interior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0" name="Picture 14" descr="Untitled-2 copy"/>
          <p:cNvPicPr/>
          <p:nvPr/>
        </p:nvPicPr>
        <p:blipFill>
          <a:blip r:embed="rId1"/>
          <a:stretch/>
        </p:blipFill>
        <p:spPr>
          <a:xfrm>
            <a:off x="914400" y="2743200"/>
            <a:ext cx="3728880" cy="3228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Untitled-3 copy"/>
          <p:cNvPicPr/>
          <p:nvPr/>
        </p:nvPicPr>
        <p:blipFill>
          <a:blip r:embed="rId2"/>
          <a:stretch/>
        </p:blipFill>
        <p:spPr>
          <a:xfrm>
            <a:off x="5105520" y="2743200"/>
            <a:ext cx="3147840" cy="32288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5760" y="1690560"/>
            <a:ext cx="82296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how seismic waves interact with Earth’s interi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779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s and Plate Tectonic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s are the result of stresses in Earth’s lithosp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arthquakes occur at or near tectonic plate boundaries, where stress on the rock is grea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ain types of tectonic settings are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s and Plate Tectonic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169056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vergent Oceanic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convergent plate boundaries, plates move toward each other and collid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nser plate moves down, 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ubducts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to the asthenosphere under the other plate, causing earthqua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t oceanic boundaries can occur between two oceanic plate or between one oceanic plate and one continental p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5760" y="169056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vergent Oceanic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divergent plate boundaries that make up the mid-ocean ridges, plates are moving away from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s occur along mid-ocean ridges because oceanic lithosphere is pulling away from both sides of the rid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576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s and Plate Tectonic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5760" y="169056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ntinental Environ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s also occur at locations where two continental plates converge, diverge, or move horizontally in opposite dire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the continental plates interact, the rock surrounding the boundary experiences stress, which causes earthqua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576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s and Plate Tectonic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8229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astic reb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 waves and surface w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 structure of Earth’s interior affects seismic w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earthquakes generally occur at plate bounda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5760" y="16902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different tectonic boundaries where earthquakes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040" descr="Untitled-4 copy"/>
          <p:cNvPicPr/>
          <p:nvPr/>
        </p:nvPicPr>
        <p:blipFill>
          <a:blip r:embed="rId1"/>
          <a:stretch/>
        </p:blipFill>
        <p:spPr>
          <a:xfrm>
            <a:off x="1981080" y="2527200"/>
            <a:ext cx="5181840" cy="331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41" descr="Untitled-5 copy"/>
          <p:cNvPicPr/>
          <p:nvPr/>
        </p:nvPicPr>
        <p:blipFill>
          <a:blip r:embed="rId2"/>
          <a:stretch/>
        </p:blipFill>
        <p:spPr>
          <a:xfrm>
            <a:off x="7162920" y="2527200"/>
            <a:ext cx="1258920" cy="1524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5760" y="684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arthquakes and Plate Tectonic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779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ult Zon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ult zo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 zones form at plate boundaries because of the intense stress that results when plates separate, collide, subduct, or slide past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enough stress builds up, movement occurs along one or more of the individual faults in the fault zone and sometimes causes major earthquak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779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ult Zon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arthquakes Away from Plate Bound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 all earthquakes result from movement along plate bounda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11 and 1812 the most widely felt series of earthquakes in United States history occurred in the middle of the continent near New Madrid, Missour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late 1970s scientists discovered an ancient fault zone deep within the crust of the Mississippi River reg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741492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ow and Where Earthquakes Happe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arthqu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ovement or trembling of the ground that is caused by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astic rebou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s occur when rocks under stress suddenly shift along a fa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a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break in a body of rock along which one block moves relative to an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779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hy Earthquakes Happen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astic Re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logists think that earthquakes are the result of elastic rebou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process, the rocks on each side of a fault are moving slowly. If the fault is locked, the rock deforms, and stress in the rocks in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rocks are stressed past the point at which they can maintain their integrity, they fra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ocks then separate at their weakest point along the fault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bound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*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lastic Deformation and Elastic Reboun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8" name="ShockwaveFlash1"/>
          <p:cNvGraphicFramePr/>
          <p:nvPr/>
        </p:nvGraphicFramePr>
        <p:xfrm>
          <a:off x="2128680" y="1600200"/>
          <a:ext cx="4937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600200"/>
                    <a:ext cx="493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779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hy Earthquakes Happe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atomy of an Earthqua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picen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the focus depths of earthquakes vary, 90% of continental earthquakes have a shallow foc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s that have deep foci usually occur in subduction z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thquakes that cause the most damage usually have shallow foc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741492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hy Earthquakes Happen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iagram below shows the parts of an earthqua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1" descr="Untitled-1 copy"/>
          <p:cNvPicPr/>
          <p:nvPr/>
        </p:nvPicPr>
        <p:blipFill>
          <a:blip r:embed="rId1"/>
          <a:stretch/>
        </p:blipFill>
        <p:spPr>
          <a:xfrm>
            <a:off x="609480" y="2133720"/>
            <a:ext cx="7491600" cy="36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779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ismic Waves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ody wa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rface wa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rocks along a fault slip into new positions, the rocks release energy in the form of vibrations called seismic w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smic waves travel outward in all directions from the focus through the surrounding r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type of wave travels at a different speed and causes different movements in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684360"/>
            <a:ext cx="7797600" cy="73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eismic Waves, 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498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ody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waves and S waves are two types of body wa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 wa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imary wave, or compression wave; a seismic wave that causes particles of rock to move in a back-and-forth direction parallel to the direction in which the wave is trav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waves are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re rigid the material is, the faster the P wave travels through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ait Rocksund</dc:creator>
  <dc:description/>
  <dc:language>en-US</dc:language>
  <cp:lastModifiedBy>trocksund</cp:lastModifiedBy>
  <cp:lastPrinted>2004-02-20T14:12:55Z</cp:lastPrinted>
  <dcterms:modified xsi:type="dcterms:W3CDTF">2014-01-30T16:42:49Z</dcterms:modified>
  <cp:revision>763</cp:revision>
  <dc:subject/>
  <dc:title>No Slide Title</dc:title>
</cp:coreProperties>
</file>